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3A291-15E7-4AE0-BC63-BC2A6BC7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BBEB-C6C6-4626-BCF7-1646FA3E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28E5-60FF-4AC8-9A1E-D88BB119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909E7-0B96-400E-91E5-2285A430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89E4-7427-4579-B1CC-D9B44C49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6CFF-695E-46CD-BC43-497F5314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4855-2DE4-497E-8B3B-5CE6D234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576A-AF17-4C82-B21E-F8AB15FD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BC10-1BFA-45C6-868B-97DA9975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314D-5E4E-4978-BAD5-1F767821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DBD8-825D-49B5-ADC8-EAB95955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0664-8056-4CB7-9ACC-114081C3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8F21-737D-4A24-A3CE-DBC69659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364C-65FD-4BDE-9A1E-918EADA1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8C23-8124-433C-AE3C-1823AE92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CBE2-968A-4FD2-8A07-539CBE58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70D4-C333-445D-A4E5-2E350D3C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08C0-80C3-4080-97E7-0283018C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71E6-7641-42CE-8137-519F4BC2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0119-5245-4DF9-99E3-07400996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BFF3-7C89-4FAD-B7F0-244E46AA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B07D9-5515-4022-BE5C-67F3F66B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C094D-6ACB-4BF8-8337-547058BA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6202-80F1-4D3D-B21C-319E72E1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8C20-9D52-4BF5-9930-9D4C40602F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4F51-946A-439C-96F2-FB4AF2CA7E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c/c9/Isosceles-right-triangle.svg/351px-Isosceles-right-triangle.svg.png&amp;imgrefurl=http://commons.wikimedia.org/wiki/Image:Isosceles-right-triangle.svg&amp;h=351&amp;w=351&amp;sz=3&amp;hl=en&amp;start=5&amp;usg=__u9XjLDWhBkRYNiALW5Yr1vIsOvw=&amp;tbnid=IUtbWlcILG0AdM:&amp;tbnh=120&amp;tbnw=120&amp;prev=/images%3Fq%3Dright%2Btriangle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a/ac/Triangle-obtuse.svg/460px-Triangle-obtuse.svg.png&amp;imgrefurl=http://commons.wikimedia.org/wiki/Image:Triangle-obtuse.svg&amp;h=440&amp;w=460&amp;sz=14&amp;hl=en&amp;start=1&amp;usg=__BGlwe7Z5tFqRwryXAQ80vgqGtMg=&amp;tbnid=nKIVeAFfQTbIsM:&amp;tbnh=122&amp;tbnw=128&amp;prev=/images%3Fq%3Dobtuse%2Btriangle%26gbv%3D2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riangle Altitud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u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GD:  Euler Line.  (2008)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llumination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ttp://illuminations.nctm.org/ActivityDetail.aspx?ID=5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gomolony, A. The Altitudes (2008)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ut-the-Kno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http://www.cut-the-knot.org/triangle/altitudes.shtm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titu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4678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an altitud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es is it look lik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it change in different triangl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titu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 triangle, a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ltitu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 segment of the line through a vertex perpendicular to the opposite si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es this look like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it change in different triangl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the next several slides, use an annotation pen to label the type of triangle and draw the altitudes for each triang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clipart_triangle_2"/>
          <p:cNvPicPr/>
          <p:nvPr/>
        </p:nvPicPr>
        <p:blipFill>
          <a:blip r:embed="rId1"/>
          <a:stretch/>
        </p:blipFill>
        <p:spPr>
          <a:xfrm>
            <a:off x="1371600" y="380880"/>
            <a:ext cx="6324480" cy="5565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1447920" y="60199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______________________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iang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clipart_triangle_1"/>
          <p:cNvPicPr/>
          <p:nvPr/>
        </p:nvPicPr>
        <p:blipFill>
          <a:blip r:embed="rId1"/>
          <a:stretch/>
        </p:blipFill>
        <p:spPr>
          <a:xfrm>
            <a:off x="3048120" y="152280"/>
            <a:ext cx="3452760" cy="5867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2209680" y="6095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______________________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iang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351px-Isosceles-right-triang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380880"/>
            <a:ext cx="4953240" cy="49532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2133720" y="57150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______________________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iang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460px-Triangle-obtu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228600"/>
            <a:ext cx="5334120" cy="5084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2057400" y="5638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______________________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iang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titudes On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ctice creating altitudes using the Pop it up on http://www.cut-the-knot.org/triangle/altitudes.shtm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the altitudes and the Orthocenter using http://illuminations.nctm.org/ActivityDetail.aspx?ID=5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titu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w, can you answer the questions from the start of the less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an altitud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es is it look lik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it change in different triangl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1:30:47Z</dcterms:created>
  <dc:creator>CABELL BOE</dc:creator>
  <dc:description/>
  <dc:language>en-US</dc:language>
  <cp:lastModifiedBy>Lezlie</cp:lastModifiedBy>
  <dcterms:modified xsi:type="dcterms:W3CDTF">2008-11-15T18:49:19Z</dcterms:modified>
  <cp:revision>3</cp:revision>
  <dc:subject/>
  <dc:title>Triangles</dc:title>
</cp:coreProperties>
</file>